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CFF-1E80-4CDC-8542-22BE4906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CDB-8520-455E-95F5-94AE41B8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AA1-1DB5-4685-90AE-4898785E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264-1375-402F-8870-58620298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0D2-5A3A-481C-A05F-D50B68AF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5B2-3522-4779-A3FA-97574DC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588-9077-49A6-B51A-1EE803EB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5E9-A6B4-4358-997F-225137AF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DF1-D8DE-43DD-8DC2-AAA5AF57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C31-BE3F-4E7A-B0A2-2D89A83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48D-8A91-4A88-B1D2-2FE8FEE3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234-9FDD-45BF-B84E-26D3B344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395-C7AD-42B4-803A-A946C59FA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bii.gov/images/uploaded/153507_1153350433598_m_Baltic_sea_pollution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reenpeace.org/raw/image_full/russia/en/photosvideos/photos/air-pollution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static.guim.co.uk/sys-images/Guardian/Pix/pictures/2009/11/6/1257508360876/Russian-power-station-001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/imgres?imgurl=http://ci.santa-rosa.ca.us/SiteCollectionImages/PWStorm_waterpollution.jpg&amp;imgrefurl=http://ci.santa-rosa.ca.us/departments/utilities/stormwatercreeks/swpermit&amp;usg=__IJoMYzLDHIljhMWaBGsOgRwU0OU=&amp;h=289&amp;w=269&amp;sz=148&amp;hl=en&amp;start=57&amp;zoom=1&amp;itbs=1&amp;tbnid=JLmkSdUcYMM0LM:&amp;tbnh=115&amp;tbnw=107&amp;prev=/images%3Fq%3DRussian%2Bpollution%26start%3D40%26hl%3Den%26sa%3DN%26gbv%3D2%26ndsp%3D20%26tbs%3Disch:1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ily Barker and Dejvid Sh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places with severe pol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common oil spills during the communist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don’t clean up the sp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waste was dumped into the rivers and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icides and other heavy metals poisoned soil in a lot of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polluted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the places have acid rain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power left dangerous by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1981080"/>
            <a:ext cx="3476520" cy="262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2819520"/>
            <a:ext cx="2971800" cy="165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304920"/>
            <a:ext cx="3733920" cy="155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981080" y="4876920"/>
            <a:ext cx="4496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For Peoples and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 Drink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suffer from lu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 Soil can make poison plants that animals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03:07Z</dcterms:created>
  <dc:creator> </dc:creator>
  <dc:description/>
  <dc:language>en-US</dc:language>
  <cp:lastModifiedBy> </cp:lastModifiedBy>
  <dcterms:modified xsi:type="dcterms:W3CDTF">2010-12-14T15:10:33Z</dcterms:modified>
  <cp:revision>2</cp:revision>
  <dc:subject/>
  <dc:title>Russia’s Environment</dc:title>
</cp:coreProperties>
</file>